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1713-97FB-492A-8BF0-BFB48A80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0B2-9B0F-42AE-BEB4-5C450BA44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F469-0FF5-48FD-B543-BD303A17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1A11-5A03-4BA3-92BF-30D8A707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654B-CF10-4109-9CC0-83185000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30F1-16C6-4C92-A696-9C1EEE30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B1D9-6FCA-4BDE-92F9-A9E38BDC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3C1C-DE5F-4FA1-A440-142E9430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8B96-BEB9-4783-9728-74911349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A914-844B-46A0-84A3-28D0021E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10BF-889B-4845-AD17-E55AC9B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529-5EA2-4DDA-88C0-06C6761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AD3D-34A9-4F6C-966E-027F4B40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131F-76D9-446F-93EF-6B1B08A5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460-04D4-41BA-B72F-1538C70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001B-EA51-4C12-AC99-C80F0FD5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D99F-23CC-47FD-AB80-D1D07AD4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3DF0-7D1B-4937-8293-202C1EB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666-888D-4614-969F-FAC628FB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BE99-357F-4C9E-AB37-F48CF76C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E231-DFFA-4468-9420-9C8A733F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EC48-0BC5-4AA3-B07A-D37F383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3FAF-3F7E-4CE3-BEBE-BC7F371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38DE-7344-448F-9372-27CACA2F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84FC-0CB3-4116-8E04-804BA01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3170-D6C1-4167-B009-D712945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DDD7-B0B8-426B-A804-02C212C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8DFC-FFA7-4B10-8918-8101CF9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9E7-5A00-4DB7-AA84-1F034F05F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F304-AC5E-4B5A-89E8-0CE3FD76D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eliverance from Error and Bigot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39640" y="4339800"/>
            <a:ext cx="6659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ord is leading His people in order to deliver them from bo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iberation Sans Narrow"/>
              </a:rPr>
              <a:t>Controversy Over the Nature of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252440"/>
            <a:ext cx="806472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ince earliest times the Nature of Christ has been a matter of controversy between differe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Was He (is He) fully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Was He fully m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t is essential for our salvation to understand who Christ was and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Christ became man. He accepted the great law of heredity.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The Desire of Ages, p. 48 and p. 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Christ came to reveal the love of God. For this purpose He needed to accept the great law of heredity. 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The Desire of Ages, p.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ink what this means (Matthew</a:t>
            </a:r>
            <a:r>
              <a:rPr b="0" i="1" lang="en-US" sz="1800" spc="-1" strike="noStrike">
                <a:solidFill>
                  <a:srgbClr val="000000"/>
                </a:solidFill>
                <a:latin typeface="Liberation Sans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Abraham did his own works with Ishma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Jacob betrayed His br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Judah and Tamar’s child was the result of sensua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Rahab was a har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David committed adultery and murder. Solomon was the son of Bathsheb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8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iberation Sans Narrow"/>
              </a:rPr>
              <a:t>Manasseh was a very godless k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What kind of nature would Jesus have with all those ancestors? Can you still accept Him as your Savior? People reject either His divinity, or His humanit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iberation Sans Narrow"/>
              </a:rPr>
              <a:t>The Failure of the Children of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82520" y="13669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n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15880" y="1871640"/>
            <a:ext cx="360216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Mingling with the Gentiles and profaning the Sabbath (Neh</a:t>
            </a:r>
            <a:r>
              <a:rPr b="0" i="1" lang="en-US" sz="2000" spc="-1" strike="noStrike">
                <a:solidFill>
                  <a:srgbClr val="000000"/>
                </a:solidFill>
                <a:latin typeface="Liberation Sans Narrow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13:18) lead to the Babylonian captiv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(PK 6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98720" y="352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15880" y="4751280"/>
            <a:ext cx="360216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trict separation from the influences of the heat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e Sabbath Reform (DA 28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259240" y="1150920"/>
            <a:ext cx="33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ishness perverted the commandments of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025960" y="1871640"/>
            <a:ext cx="362592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ishly appropriating God’s gifts (PK 7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Building walls (AA 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Perverting the Sabbath (DA 283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851440" y="352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025960" y="4751280"/>
            <a:ext cx="362592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sting down the walls of separation (Eph. 2: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howing the true meaning of the Sabbath (Mark 2:2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 rot="18771000">
            <a:off x="3578760" y="3810600"/>
            <a:ext cx="1682640" cy="360360"/>
          </a:xfrm>
          <a:prstGeom prst="rightArrow">
            <a:avLst>
              <a:gd name="adj1" fmla="val 50000"/>
              <a:gd name="adj2" fmla="val 124883"/>
            </a:avLst>
          </a:prstGeom>
          <a:solidFill>
            <a:srgbClr val="b2b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iberation Sans Narrow"/>
              </a:rPr>
              <a:t>SELFISH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 flipH="1" rot="2791800">
            <a:off x="3748680" y="3812760"/>
            <a:ext cx="1749240" cy="380880"/>
          </a:xfrm>
          <a:prstGeom prst="rightArrow">
            <a:avLst>
              <a:gd name="adj1" fmla="val 50000"/>
              <a:gd name="adj2" fmla="val 124915"/>
            </a:avLst>
          </a:prstGeom>
          <a:solidFill>
            <a:srgbClr val="b2b2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iberation Sans Narrow"/>
              </a:rPr>
              <a:t>APOSTAS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1919160" y="395928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6672240" y="395928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iberation Sans Narrow"/>
              </a:rPr>
              <a:t>Our Fail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39680" y="1500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n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50720" y="1917720"/>
            <a:ext cx="3618000" cy="137304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-sent messengers (EW 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Lack of respect for the message which comes through the messen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3800" y="35672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0720" y="4797360"/>
            <a:ext cx="361800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Gospel order: Strict separation from the influences of others (EW 124). Understanding the role of the messenger (2 Cor 4: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76880" y="12254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elfishness perverted the commandments of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114880" y="1917720"/>
            <a:ext cx="3618000" cy="137304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inking that we alone have truth. Building walls toward others. Perverting the role of the messenge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888160" y="35672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The Lord’s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114880" y="4797360"/>
            <a:ext cx="3618000" cy="144000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sting down the walls of separation (Eph. 2: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howing the true meaning of gospel order (2 Cor. 4: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rot="18772800">
            <a:off x="3556440" y="3822120"/>
            <a:ext cx="1819440" cy="360360"/>
          </a:xfrm>
          <a:prstGeom prst="rightArrow">
            <a:avLst>
              <a:gd name="adj1" fmla="val 50000"/>
              <a:gd name="adj2" fmla="val 101283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iberation Sans Narrow"/>
              </a:rPr>
              <a:t>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flipH="1" rot="2682000">
            <a:off x="3827520" y="3828600"/>
            <a:ext cx="1900440" cy="360360"/>
          </a:xfrm>
          <a:prstGeom prst="rightArrow">
            <a:avLst>
              <a:gd name="adj1" fmla="val 50000"/>
              <a:gd name="adj2" fmla="val 111627"/>
            </a:avLst>
          </a:prstGeom>
          <a:solidFill>
            <a:srgbClr val="b2b2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iberation Sans Narrow"/>
              </a:rPr>
              <a:t>APOS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1890720" y="400536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6716880" y="4005360"/>
            <a:ext cx="576000" cy="718920"/>
          </a:xfrm>
          <a:prstGeom prst="downArrow">
            <a:avLst>
              <a:gd name="adj1" fmla="val 50000"/>
              <a:gd name="adj2" fmla="val 31203"/>
            </a:avLst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iberation Sans Narrow"/>
              </a:rPr>
              <a:t>Truth Coming from an Unexpected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52200"/>
            <a:ext cx="4038480" cy="2739960"/>
          </a:xfrm>
          <a:prstGeom prst="rect">
            <a:avLst/>
          </a:prstGeom>
          <a:solidFill>
            <a:srgbClr val="b2b2ff"/>
          </a:solidFill>
          <a:ln w="12600">
            <a:solidFill>
              <a:srgbClr val="000000"/>
            </a:solidFill>
            <a:miter/>
          </a:ln>
        </p:spPr>
        <p:txBody>
          <a:bodyPr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was an apostate theolog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wanted to say that Job’s suffering was inflicted by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intended to press his understanding (error) on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Satan was tempting Job through Eliph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852200"/>
            <a:ext cx="4038480" cy="2739960"/>
          </a:xfrm>
          <a:prstGeom prst="rect">
            <a:avLst/>
          </a:prstGeom>
          <a:solidFill>
            <a:srgbClr val="cccce6"/>
          </a:solidFill>
          <a:ln w="12600">
            <a:solidFill>
              <a:srgbClr val="000000"/>
            </a:solidFill>
            <a:miter/>
          </a:ln>
        </p:spPr>
        <p:txBody>
          <a:bodyPr tIns="914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Eliphaz spoke the truth unwittingly. 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(MB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Other writers repeated the same truth 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(Proverbs 3:11; Hebrews 12: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What Eliphaz said is truth for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It was truth for Job, as he later found out directly from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95280" y="1266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Job 5:17-19 – Did God speak through Elipha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79280" y="4797360"/>
            <a:ext cx="87854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Eliphaz was sinful and acted very wickedly, yet the Lord used Him to reveal tr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Likewise, Christ revealed the Father in the likeness of sinful flesh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See John 3:14; The Desire of Ages</a:t>
            </a:r>
            <a:r>
              <a:rPr b="0" i="1" lang="en-US" sz="1600" spc="-1" strike="noStrike">
                <a:solidFill>
                  <a:srgbClr val="000000"/>
                </a:solidFill>
                <a:latin typeface="Liberation Sans Narro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p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Few are listening for the voice of God, and ready to accept tru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in whatever guise it may be presented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The Desire of Ages</a:t>
            </a:r>
            <a:r>
              <a:rPr b="0" i="1" lang="en-US" sz="1600" spc="-1" strike="noStrike">
                <a:solidFill>
                  <a:srgbClr val="000000"/>
                </a:solidFill>
                <a:latin typeface="Liberation Sans Narro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 p. 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iberation Sans Narrow"/>
              </a:rPr>
              <a:t>Accepting the Lord’s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n we accept truth when it is spoken by those who are not in the church, who do not know the message, who might even be enem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Balaam spoke the truth even though he wanted to curse Israel, and gave a bad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Sabbath truth was promulgated by those who had rejected the first angel’s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The Pharisees spoke the truth. </a:t>
            </a: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Matthew 23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beration Sans Narrow"/>
              </a:rPr>
              <a:t>People who were not with Jesus spoke the truth.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Liberation Sans Narrow"/>
              </a:rPr>
              <a:t>Luke 9:49-50; The Desire of Ages, p. 4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Can we cultivate a generous spirit which is free from bigotry, without becoming a victim of err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iberation Sans Narrow"/>
              </a:rPr>
              <a:t>We need the spirit of Christ. We need to have gospel order in the heart, not on tables of s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07:56Z</dcterms:created>
  <dc:creator>Andreas Dura</dc:creator>
  <dc:description/>
  <dc:language>en-US</dc:language>
  <cp:lastModifiedBy>Frank Zimmerman</cp:lastModifiedBy>
  <dcterms:modified xsi:type="dcterms:W3CDTF">2025-05-11T07:03:35Z</dcterms:modified>
  <cp:revision>27</cp:revision>
  <dc:subject/>
  <dc:title>Deliverance from Bigotry</dc:title>
</cp:coreProperties>
</file>